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397DC-0CFA-4DCE-8551-25EA9C89E0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2C0C5-38B7-4EC9-9BB4-4F224D497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A8A5E-30E0-4801-ABE4-E192EA60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F20C6-49EF-425F-8FD4-38A4E8563E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2C64D-90D3-4401-875C-40B913AA5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F594D-6BD4-4961-8E52-1AB589130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92B71-0C20-4C8F-B271-A2F59FAC9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3ED3D-C76C-46F0-BE57-164143E04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F2D3D-6B51-495F-AF02-631B3C761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BF83F-6538-4EE9-BCFF-F42524D29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908D3-87B3-4D8D-94DD-8B733EFB0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57EF2-3708-4CF7-A50C-01F9AE96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739E0-2588-4219-8E24-A6E5CC39BE3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症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者给予镇痛剂，但禁用吗啡和哌替啶，以免抑制呼吸中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者应禁食和维持水、电解质及酸碱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热者进行有效降温，减少脑缺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9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颅内占位性病变、颅内压增高，拟行手术治疗。入院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他清晨用力排便时突发剧烈头痛，呕吐，左侧肢体瘫痪，意识丧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5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50/88 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右侧瞳孔散大，对光反射消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出现了何种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?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为什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?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的急救护理措施有哪些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颅内压增高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体液不足的危险 与频繁呕吐、不能进食和脱水治疗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脑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：床头抬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斜坡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给氧 ：持续或间断给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正常体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醒、模糊、浅昏迷、昏迷和深昏迷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瞳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侧初期瞳孔缩小，对光反射迟钝，后期患侧瞳孔逐渐扩大，直接或间接对光反射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肢体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监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颅内压突然增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绝对卧床休息，保持病室安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,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情绪激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剧烈咳嗽和用力排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及时控制癫痫发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疝的急救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即脱水治疗 遵医嘱快速静脉输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甘露醇和呋塞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，吸氧。准备气管插管盘及呼吸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生命体征、意识、瞳孔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紧急手术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水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高渗性和利尿性脱水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在脱水期间要观察血压、脉搏、尿量变化，注意观察和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出入水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防止颅内压反跳现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素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应用肾上腺皮质激素如地塞米松、氢化可的松等，可预防和缓解脑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加强观察和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激素引起消化道应激性溃疡机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冬眠低温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单人房间，室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温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患者生命体征、意识和瞳孔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温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颅内压增高患者的病情观察要点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颅内压增高的定义、临床表现及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冬眠低温治疗、脑室引流疗法的护理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库欣反应的含义及意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两种常见脑疝的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能评估颅内压增高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引流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室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格无菌操作，妥善固定，保持引流通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活动翻身时防止引流管滑脱，每日更换引流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适当引流速度和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并记录脑脊液性状和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拔管：脑室引流时间一般不超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拔管前应试行夹闭引流管或抬高引流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，观察有无颅内压增高现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引流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续腰大池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密观察病情变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、记录引流液的量、色、质和速度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有效引流和预防感染同脑室引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拔管护理同脑室引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症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痛者遵医嘱使用镇痛剂，但禁用吗啡和哌替啶，以免抑制呼吸中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者应禁食和维持水、电解质及酸碱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热者进行有效降温，减少脑缺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躁动者寻找原因，遵医嘱给予镇静药物，切忌强行约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介绍疾病相关知识，指导患者及家属学习和掌握康复知识和技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患者要防止剧烈咳嗽、便秘、用力等诱发颅内压骤升的因素，避免脑疝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主要包括两方面，一是颅腔内容物的体积或量增加，二是颅内空间或颅腔容积缩小。前者多因脑体积增加（如脑组织损伤、缺血缺氧、中毒等导致脑水肿）、脑脊液增多或脑血流量增加。后者可因先天性因素（如狭颅症、颅底凹陷症等先天性畸形使颅腔容积变小）和后天性因素（如颅内血肿、脑肿瘤等颅内占位性病变使颅内空间相对缩小，或大片凹陷性颅骨骨折使颅腔容积变小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最早和最主要的症状是头痛、呕吐与视盘水肿，合称颅内压增高三主征，其他有意识障碍、生命体征紊乱、脑疝和阵发性黑矇、头晕、猝倒、头皮静脉曲张等其他症状和体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治疗、病因治疗、降低颅内压和对症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绝对卧床休息，保持病室安静。床头抬高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°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观察生命体征、瞳孔和意识等的变化。避免情绪激动、剧烈咳嗽和便秘，防止颅内压骤升。若出现脑疝及时处理。各项配合治疗的护理，如脱水、激素、脑疝急救、脑室引流和冬眠低温治疗的护理。对高热、头痛、呕吐患者注意对症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intracranial hypertensio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是神经外科常见临床病理综合征，是颅脑损伤、脑肿瘤、脑出血、脑积水和颅内炎症等疾病引起颅腔内容物体积增加，导致颅内压持续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.0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0mm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以上，并出现头痛、呕吐、视盘水肿等相应的综合征，称为颅内压增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9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头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，多见于清晨，低头、用力时加重。头痛时有恶心呕吐，与进食无关。经常出现癫痫发作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：颅内占位性病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：头痛、呕吐、视盘水肿是颅内压增高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主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视盘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命体征紊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脑幕切迹疝：意识障碍进行性加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枕骨大孔疝：意识障碍和瞳孔改变出现较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椎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造影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水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素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冬眠低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8:33:11Z</dcterms:modified>
  <cp:revision>90</cp:revision>
  <dc:subject/>
  <dc:title>内科护理学</dc:title>
</cp:coreProperties>
</file>